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6ADD-9E7D-44DF-AED9-7B4FC2869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8480-3938-4452-A45D-62FD593BF6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8D9-FD64-4224-875D-35537F22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2D5-C055-4590-830F-821B4066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3C8-840E-4837-A4E9-5368EEEE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F50-9B11-4953-B10F-A58EBF3C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84B1-855F-4E86-9EDB-25C50BC4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C3D6-8C7B-4570-B1EB-D90AC4AA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0237-4D23-44E6-A062-4B0FB84A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530C-9B0E-444F-9FD3-655CBFDD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10B0-848C-45E4-864E-9EDB4366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8463-11DE-4CF0-A4E2-5C6CA67D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F619-2E0B-4C04-B311-C80B861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B09-CB28-426E-876A-834B7A2E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A281-848F-4DAF-892D-1355DD8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D0CF-6146-427F-B94F-4678215D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93CE-95F7-4D03-B55B-703BCD31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CF5D-44E7-4573-BC60-A752E0BC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3531-F0D2-4267-BE81-767C15F2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345-19E1-4EAB-9AAA-B86DAA97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D2E-FF3F-4D32-8F18-3C11B937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450-1DDC-406F-9F9C-996582AA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0C0-8117-4F28-89EF-3368846B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64C-5105-4A75-BBD5-89855C67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AFA-ED2C-4F04-AFE8-72B847F3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99A-F7E4-4347-8048-21995A12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41FF-D86E-4F72-9565-6A8422BA801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2A73-0230-42CC-A12B-C08B4D2091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andcolor.ru/katalog/kinetic_sand.html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sokpodarok.ru/" TargetMode="External"/><Relationship Id="rId2" Type="http://schemas.openxmlformats.org/officeDocument/2006/relationships/hyperlink" Target="http://pesokpodarok.ru/" TargetMode="External"/><Relationship Id="rId3" Type="http://schemas.openxmlformats.org/officeDocument/2006/relationships/hyperlink" Target="http://pesokpodarok.ru/" TargetMode="External"/><Relationship Id="rId4" Type="http://schemas.openxmlformats.org/officeDocument/2006/relationships/hyperlink" Target="http://pesokpodarok.ru/" TargetMode="External"/><Relationship Id="rId5" Type="http://schemas.openxmlformats.org/officeDocument/2006/relationships/hyperlink" Target="http://pesokpodarok.ru/" TargetMode="External"/><Relationship Id="rId6" Type="http://schemas.openxmlformats.org/officeDocument/2006/relationships/hyperlink" Target="http://pesokpodarok.ru/" TargetMode="External"/><Relationship Id="rId7" Type="http://schemas.openxmlformats.org/officeDocument/2006/relationships/hyperlink" Target="http://pesokpodarok.ru/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pesokpodarok.ru/" TargetMode="External"/><Relationship Id="rId10" Type="http://schemas.openxmlformats.org/officeDocument/2006/relationships/image" Target="../media/image7.png"/><Relationship Id="rId11" Type="http://schemas.openxmlformats.org/officeDocument/2006/relationships/hyperlink" Target="http://pesokpodarok.ru/" TargetMode="Externa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esokpodarok.ru/" TargetMode="External"/><Relationship Id="rId2" Type="http://schemas.openxmlformats.org/officeDocument/2006/relationships/hyperlink" Target="http://pesokpodarok.ru/" TargetMode="External"/><Relationship Id="rId3" Type="http://schemas.openxmlformats.org/officeDocument/2006/relationships/hyperlink" Target="http://pesokpodarok.ru/" TargetMode="External"/><Relationship Id="rId4" Type="http://schemas.openxmlformats.org/officeDocument/2006/relationships/hyperlink" Target="http://pesokpodarok.ru/" TargetMode="External"/><Relationship Id="rId5" Type="http://schemas.openxmlformats.org/officeDocument/2006/relationships/hyperlink" Target="http://pesokpodarok.ru/" TargetMode="External"/><Relationship Id="rId6" Type="http://schemas.openxmlformats.org/officeDocument/2006/relationships/hyperlink" Target="http://pesokpodarok.ru/" TargetMode="External"/><Relationship Id="rId7" Type="http://schemas.openxmlformats.org/officeDocument/2006/relationships/hyperlink" Target="http://pesokpodarok.ru/" TargetMode="External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4246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Т УДИВИТЕЛЬНЫЙ КИНЕТИЧЕСКИЙ ПЕСОК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Объект 3" descr="http://sandcolor.ru/assets/images/img_img_catalog_1_images_407.jpg"/>
          <p:cNvPicPr/>
          <p:nvPr/>
        </p:nvPicPr>
        <p:blipFill>
          <a:blip r:embed="rId1"/>
          <a:stretch/>
        </p:blipFill>
        <p:spPr>
          <a:xfrm>
            <a:off x="3708360" y="2637000"/>
            <a:ext cx="3252960" cy="24811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468360" y="278136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инетический песок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вижущийся пе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2286000" y="522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стер - клас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оспитателя Назаренко Л.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900000" y="549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униципальное бюджетное дошкольное образовательное учреждение детский сад №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72072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Играй и учись от 4 до 5 лет</a:t>
            </a:r>
            <a:br>
              <a:rPr sz="2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Когда ваш малыш подрастает, можно постепенно знакомить его с буквами и цифрами, придумывать различные игры вроде «Угадай букву или цифру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Объект 3" descr="http://pesokpodarok.ru/pesok/images/block3_2.png"/>
          <p:cNvPicPr/>
          <p:nvPr/>
        </p:nvPicPr>
        <p:blipFill>
          <a:blip r:embed="rId1"/>
          <a:stretch/>
        </p:blipFill>
        <p:spPr>
          <a:xfrm>
            <a:off x="1908000" y="2492280"/>
            <a:ext cx="47246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501336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пите замки, любые сложные фигуры, все что вы видели только во снах — возможно сделать на яву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Объект 3" descr="http://pesokpodarok.ru/pesok/images/block3_4.png"/>
          <p:cNvPicPr/>
          <p:nvPr/>
        </p:nvPicPr>
        <p:blipFill>
          <a:blip r:embed="rId1"/>
          <a:stretch/>
        </p:blipFill>
        <p:spPr>
          <a:xfrm>
            <a:off x="1619280" y="1628640"/>
            <a:ext cx="6399360" cy="3837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"/>
          <p:cNvSpPr/>
          <p:nvPr/>
        </p:nvSpPr>
        <p:spPr>
          <a:xfrm>
            <a:off x="1116000" y="8827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ролевство из песка! от 6 и до 9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399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идактические игры и упражнения по математи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63640" y="1773000"/>
            <a:ext cx="69199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ГАДАЙ, ГДЕ СПРЯТА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СОЧНЫЙ ТЕЛЕГРАФ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ЕРТИКАЛЬ – ГОРИЗОНТА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ЙДИ ЦИФР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ЗОР В ГЕОМЕТРИЧЕСКОЙ ФИГУР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ЕШЕНИЕ ЛОГИЧЕСКИХ ЗАДА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МИК ДЛЯ ДРУЗ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РИСУЙ ФИГУР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ЙДИ ПО ДОРОЖ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ldhabi"/>
              </a:rPr>
              <a:t>измерь и сосчита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ldhabi"/>
              </a:rPr>
              <a:t>подели на равные ча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ЕСЁЛЫЕ РАСКОПКИ – (познавательное развитие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639936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ЕСОЧНЫЕ ИГРЫ ПО РЕЧЕВОМУ РАЗВИТ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640" y="1412640"/>
            <a:ext cx="791208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Игры на расширение словарного запас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Игры на развитие фонематического слуха: «Лепим буквы», «Превращение букв», «Найди звук», «Кто это был?», «Какой звук лишний» и др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Игры на развитие связной речи: «Пряталки», «Мой город» и др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Игры на освоение навыков чтения и письма: «Найди буквы и сложи слоги и слова», «Слепи букву», «Фея ударения», «Построй ступеньки» и др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639900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есочные игры бывают трёх ви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1773360"/>
            <a:ext cx="78566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Обучающие игр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*моделирование игр-сказо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*игры на развитие тактильно-кинестетической чувствительности и мелкой моторики рук 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*игры на развитие фонематического слуха, коррекцию звукопроизношения, обучение чтению и письм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ознавательные игр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*игры на знакомство с окружающим мир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*географические иг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*фантастические иг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*исторические иг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*игры-экскурсии по город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оективные иг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пользуют психологи и психотерапевт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79640" y="980640"/>
            <a:ext cx="6399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ложительные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47280" y="2204640"/>
            <a:ext cx="6696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детей значительно возрастает интерес к занятиям;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дети чувствуют себя более успешными;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на занятиях нет места монотонности и скуке;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у детей более легко проходит адаптационный период, напряжение и страх исчезают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Объект 3" descr="2.1"/>
          <p:cNvPicPr/>
          <p:nvPr/>
        </p:nvPicPr>
        <p:blipFill>
          <a:blip r:embed="rId1"/>
          <a:stretch/>
        </p:blipFill>
        <p:spPr>
          <a:xfrm>
            <a:off x="3075120" y="3333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2.2"/>
          <p:cNvPicPr/>
          <p:nvPr/>
        </p:nvPicPr>
        <p:blipFill>
          <a:blip r:embed="rId2"/>
          <a:stretch/>
        </p:blipFill>
        <p:spPr>
          <a:xfrm>
            <a:off x="108000" y="1052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2.13"/>
          <p:cNvPicPr/>
          <p:nvPr/>
        </p:nvPicPr>
        <p:blipFill>
          <a:blip r:embed="rId3"/>
          <a:stretch/>
        </p:blipFill>
        <p:spPr>
          <a:xfrm>
            <a:off x="249120" y="4149720"/>
            <a:ext cx="2862360" cy="21369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2.12"/>
          <p:cNvPicPr/>
          <p:nvPr/>
        </p:nvPicPr>
        <p:blipFill>
          <a:blip r:embed="rId4"/>
          <a:stretch/>
        </p:blipFill>
        <p:spPr>
          <a:xfrm>
            <a:off x="6084720" y="1019160"/>
            <a:ext cx="2860920" cy="21369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.9"/>
          <p:cNvPicPr/>
          <p:nvPr/>
        </p:nvPicPr>
        <p:blipFill>
          <a:blip r:embed="rId5"/>
          <a:stretch/>
        </p:blipFill>
        <p:spPr>
          <a:xfrm>
            <a:off x="3111480" y="2852640"/>
            <a:ext cx="2862360" cy="21384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2.7"/>
          <p:cNvPicPr/>
          <p:nvPr/>
        </p:nvPicPr>
        <p:blipFill>
          <a:blip r:embed="rId6"/>
          <a:stretch/>
        </p:blipFill>
        <p:spPr>
          <a:xfrm>
            <a:off x="6084720" y="4292640"/>
            <a:ext cx="28609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278100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исхождение пес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03280" y="1402920"/>
            <a:ext cx="546876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готовленный в Южной Корее специально для детей, он уже покорил Японию, Корею, Тайвань, Швейцарию, Германию, и наконец-то буквально пару месяцев назад появился и в Ро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Рисунок 3" descr="http://pesokpodarok.ru/pesok/images/block2_2.png"/>
          <p:cNvPicPr/>
          <p:nvPr/>
        </p:nvPicPr>
        <p:blipFill>
          <a:blip r:embed="rId1"/>
          <a:stretch/>
        </p:blipFill>
        <p:spPr>
          <a:xfrm>
            <a:off x="468360" y="1413000"/>
            <a:ext cx="2422440" cy="2422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http://pesokpodarok.ru/pesok/images/block2_3.png"/>
          <p:cNvPicPr/>
          <p:nvPr/>
        </p:nvPicPr>
        <p:blipFill>
          <a:blip r:embed="rId2"/>
          <a:stretch/>
        </p:blipFill>
        <p:spPr>
          <a:xfrm>
            <a:off x="250920" y="3836880"/>
            <a:ext cx="4340160" cy="10796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595440" y="46864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сок предназначен для игры детям и не тольк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http://pesokpodarok.ru/pesok/images/block2_4.png"/>
          <p:cNvPicPr/>
          <p:nvPr/>
        </p:nvPicPr>
        <p:blipFill>
          <a:blip r:embed="rId3"/>
          <a:stretch/>
        </p:blipFill>
        <p:spPr>
          <a:xfrm>
            <a:off x="2128680" y="5129280"/>
            <a:ext cx="4678560" cy="7207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468360" y="5850000"/>
            <a:ext cx="81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ризнан одной из самых лучши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вивающ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гр, предназначенных для реб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08360" y="115560"/>
            <a:ext cx="4975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ажные свой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07920" y="1125360"/>
            <a:ext cx="78314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Исследования лабораторий компаний FITI Testing &amp; Research Institute и Korean Broadcasting Station показали, что «Живой Песок» обладает антибактериальными свойствами, поэтому микробы, бактерии и другие микроорганизмы не могут существовать в не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В состав Песка входят только натуральные ингредиенты: мелкий песок, дробленый ракушечник и силиконовое связующ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Благодаря особому составу, он одновременно и липкий, и сыпучий, поэтому он хорошо держит форму, но легко рассыпается для новых экспериментов. Он мягкий и нежный, и вызывает только самые приятные тактильные ощущения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 Очень приятный на ощупь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гигиеничный и не токсичный.  Экологически чист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Рисунок 3" descr="http://pesokpodarok.ru/pesok/images/block4_1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8560" y="1219320"/>
            <a:ext cx="596880" cy="5792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http://pesokpodarok.ru/pesok/images/block4_2.p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9480" y="2998800"/>
            <a:ext cx="596880" cy="585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http://pesokpodarok.ru/pesok/images/block4_3.pn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06320" y="4078440"/>
            <a:ext cx="59220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561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60280" y="1268280"/>
            <a:ext cx="77324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П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осл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игры с ним достаточно просто отряхнуть руки, или сполоснуть их под краном. Вам не потребуется ни мыла, ни какого-либо другого средства. Также легко Песок смывается с прочих поверхностей, в том числе текстиля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Из Песка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можно слепить невообразимое количество разных фигур и замков, это отличный тренажер для развития воображения. Р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звивает мелкую моторику детских рук.</a:t>
            </a:r>
            <a:r>
              <a:rPr b="1" lang="ru-RU" sz="1800" spc="-1" strike="noStrike">
                <a:solidFill>
                  <a:srgbClr val="4597a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4597a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вероятно приятный на ощупь – настоящий, практически природный антистресс. Пока вы будете перебирать песок в руках, тело и мозг расслабятся, и вы почувствуете себя отдохнувшим. Эдакий мини-отпуск, не выходя из офиса или дома</a:t>
            </a:r>
            <a:r>
              <a:rPr b="0" lang="ru-RU" sz="1800" spc="-1" strike="noStrike">
                <a:solidFill>
                  <a:srgbClr val="4597a0"/>
                </a:solidFill>
                <a:latin typeface="Verdana"/>
              </a:rPr>
              <a:t>.</a:t>
            </a:r>
            <a:r>
              <a:rPr b="1" lang="ru-RU" sz="1800" spc="-1" strike="noStrike">
                <a:solidFill>
                  <a:srgbClr val="4597a0"/>
                </a:solidFill>
                <a:latin typeface="Verdana"/>
              </a:rPr>
              <a:t> Развивает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тей.</a:t>
            </a:r>
            <a:r>
              <a:rPr b="1" lang="ru-RU" sz="1800" spc="-1" strike="noStrike">
                <a:solidFill>
                  <a:srgbClr val="4597a0"/>
                </a:solidFill>
                <a:latin typeface="Verdana"/>
              </a:rPr>
              <a:t> Расслабляет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зрослых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гко смывается и не липн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Рисунок 3" descr="http://pesokpodarok.ru/pesok/images/block4_4.png"/>
          <p:cNvPicPr/>
          <p:nvPr/>
        </p:nvPicPr>
        <p:blipFill>
          <a:blip r:embed="rId8"/>
          <a:stretch/>
        </p:blipFill>
        <p:spPr>
          <a:xfrm>
            <a:off x="817560" y="1438200"/>
            <a:ext cx="614520" cy="6098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http://pesokpodarok.ru/pesok/images/block4_5.png"/>
          <p:cNvPicPr/>
          <p:nvPr/>
        </p:nvPicPr>
        <p:blipFill>
          <a:blip r:embed="rId9"/>
          <a:stretch/>
        </p:blipFill>
        <p:spPr>
          <a:xfrm>
            <a:off x="865080" y="2998800"/>
            <a:ext cx="592200" cy="5857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http://pesokpodarok.ru/pesok/images/block4_6.png"/>
          <p:cNvPicPr/>
          <p:nvPr/>
        </p:nvPicPr>
        <p:blipFill>
          <a:blip r:embed="rId10"/>
          <a:stretch/>
        </p:blipFill>
        <p:spPr>
          <a:xfrm>
            <a:off x="895320" y="4218120"/>
            <a:ext cx="59220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000" y="620640"/>
            <a:ext cx="648036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сок - это универсальное средство для творчества и терапи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4360" y="1773000"/>
            <a:ext cx="79992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лагодаря играм с песко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ходит раздражительность, агрессивность, плаксивос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преодолеваются страхи, тревог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силивается желание узнавать новое и экспериментировать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появляется самостоятельность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развивается тактильная чувствитель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развиваются познавательные функции (восприятие, внимание, память, мышление, а так же речь и мотор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гры с песком НЕ требуют специальных знаний и навыков – это просто, привычно, естественно и приятно! Недостаточную концентрацию, импульсивное поведение, нетерпеливость - все это можно скорректировать при помощи занятий с использованием пес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397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кинетического песка есть и другие свой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71640" y="1341000"/>
            <a:ext cx="77119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  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ликоновое связующее не высыхает со временем, и кинетический песок остается постоянно «влажным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  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ликоновое связующее довольно прочно прилипает к песчинкам, но не липнет к рукам и одежд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  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удучи просыпанными, частицы песка не разлетаются по полу, а остаются компактной кучкой. Эту кучку очень легко собрать с полу прикоснувшись к ней комочком песка большего размера. Это примерно, как комочек теста собирает в себя просыпавшуюся му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  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, наконец, если песок переувлажнить, например, залив его водой, то после высыхания он полностью восстанавливает свои свой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зопасен, им почти невозможно засорить глаза, не имеет запаха. Даже в случае его проглатывания кварц и силикон не вступают во взаимодействие с желудочным соком и через определенное время просто выходят естественным путем, не вызывая никакого дискомфор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24000" y="836640"/>
            <a:ext cx="48308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териал для детской игры и достойная альтернатива конструктору "Лего".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сок не требует особых условий хранения, главное его хранить в закрытом от пыли пространств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удучи свободно насыпанным, песок представляется очень рыхлым, пушистым, приятным на ощуп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определенное количество песка сильно сжать или уплотнить, как это делают дети при изготовлении куличиков, то его объем уменьшится почти в 2 раза, а полученная фигура надолго сохранит свою форм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Рисунок 3" descr="http://sandcolor.ru/assets/images/77.jpg"/>
          <p:cNvPicPr/>
          <p:nvPr/>
        </p:nvPicPr>
        <p:blipFill>
          <a:blip r:embed="rId1"/>
          <a:stretch/>
        </p:blipFill>
        <p:spPr>
          <a:xfrm>
            <a:off x="395280" y="1844640"/>
            <a:ext cx="3622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95280" y="105264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ментарии медико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 помощи песка в детском развит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26920" y="1915920"/>
            <a:ext cx="78393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 3 лет игра ребенка в песке носит познавательный и развивающий характер, играя в «куличики», «пасочки» он формирует свое представление о мире. С 3 лет игра в песочнице носит обучающий характер и терапевтический, то есть помогает ребенку избавиться от страхов, застенчивости, конфликтности в общении и многих других пробле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исты утверждают, что он поглощает негативную психическую энергию, взаимодействие с ним очищает энергетику человека, стабилизирует эмоциональное состояние. Основателем песочной терапии является Швейцарский психолог и философ Карл Густав Юн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34920" y="533160"/>
            <a:ext cx="6848280" cy="109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влекательные кулич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т 2-ух до 4 ле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0920" y="4653000"/>
            <a:ext cx="807228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ычные куличики можно превратить в развивающие детские игры. Размер (большой - маленький), цвет (красный - синий), форма (квадрат – цилиндр) – возможно с этими понятиями малыш впервые познакомится именно во время игры в песочниц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Рисунок 3" descr="http://pesokpodarok.ru/pesok/images/block3_1.png"/>
          <p:cNvPicPr/>
          <p:nvPr/>
        </p:nvPicPr>
        <p:blipFill>
          <a:blip r:embed="rId1"/>
          <a:stretch/>
        </p:blipFill>
        <p:spPr>
          <a:xfrm>
            <a:off x="611280" y="1498680"/>
            <a:ext cx="5475240" cy="30034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6443640" y="253836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Фантазируй и развивайся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7:18Z</dcterms:created>
  <dc:creator>Katunina</dc:creator>
  <dc:description/>
  <cp:keywords/>
  <dc:language>en-US</dc:language>
  <cp:lastModifiedBy>Дмитрий</cp:lastModifiedBy>
  <dcterms:modified xsi:type="dcterms:W3CDTF">2015-08-27T11:47:52Z</dcterms:modified>
  <cp:revision>35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9</vt:lpwstr>
  </property>
</Properties>
</file>