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15.png" ContentType="image/png"/>
  <Override PartName="/ppt/media/image6.gif" ContentType="image/gif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7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A524-3FC9-4D44-858D-243A0972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F98-8FE2-4FC6-81C7-2C4C43F1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F30-3A56-4FB7-A207-D07C954C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CB5-029D-4AD7-A5EA-8B6C4DF5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0B5A-B34B-4A69-A25D-9D8B22C2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DDC5-E854-4EDA-B41A-962706A0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931A-DB44-4553-BC08-F839C2E4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BF17-0CFD-4D3B-BF27-9AB99A21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39A3-7DE6-4D92-AC1D-7DD391F2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A04E-4FE3-4225-9E09-77AD6536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23AE-516E-4D7C-AC19-2259C900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8F6-DD93-49F4-BF72-82C3E671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0545-A8DF-4727-BDE7-88949DD2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1F99-1832-4425-94B7-FEFA5B19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DAC5-A4C7-48CF-A702-2AD29ED5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17FF-E396-4D3C-A83D-D2DC1AF2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5B20-1CAF-4E60-B1D0-66AAB894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5FE-EC44-44A8-B3C2-66F88789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CB37-73F6-4124-9EFA-3ABCD1D5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E23-0F08-462B-AA3B-80DA6E1E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E2E-5E15-4376-85D4-C288C71D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47A-606A-4ED4-9845-9E61D195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078-AC2D-42A8-AC03-828CD833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D0DB-9593-4DC1-9D5D-6BCAF7AB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8870-79E4-4A1A-9DD5-AEB90820DB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0FC3-14F8-4580-A7AC-9AA20F724E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Василь Стус</a:t>
            </a:r>
            <a:br>
              <a:rPr sz="4400"/>
            </a:b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Філософська лірика митц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00720" y="2327040"/>
            <a:ext cx="464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и ще повернемос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бов'язково повернемос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бодай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огами вперед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але: не мертв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але: не переможені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але: безсмертн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. Ст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441600" cy="504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9852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Екзистенційна лірика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 – вірші, в яких розкривається внутрішня сутність людини, те глибинне, внаслідок якого кожна особистість є неповторною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Arial"/>
              </a:rPr>
              <a:t>Аналіз поезії “Ярій, душе.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ff99"/>
                </a:solidFill>
                <a:latin typeface="Arial"/>
              </a:rPr>
              <a:t>Ярій, а не ридай..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ловникова робо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) яр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 – випромінювати яскраве світл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2) яріти – виявляти зло, лю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наліз поезії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верніть увагу на образи поезії.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б'єднайте їх у дві протилежні за змістом метафоричні груп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зкрийте їх філософі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ку роль відіграють епітети на позначення кольор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268360" y="476280"/>
            <a:ext cx="4192920" cy="5184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042920" y="1047600"/>
            <a:ext cx="6985080" cy="5281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195640" y="620640"/>
            <a:ext cx="42400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Arial"/>
              </a:rPr>
              <a:t>Аналіз поезії “Ярій, душе.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ff99"/>
                </a:solidFill>
                <a:latin typeface="Arial"/>
              </a:rPr>
              <a:t>Ярій, а не ридай..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сторична основа твору – вбивство художниці Алли Горської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970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р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ловникова робо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1) ярі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и – випромінювати яскраве світл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2) яріти – виявляти зло, лю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верніть увагу на образи поезії, об'єднайте їх у дві протилежні за змістом метафоричні групи, розкрийте їх філософі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Яку роль відіграють епітети на позначення кольор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Arial"/>
              </a:rPr>
              <a:t>Аналіз поезії “Не можу я без посмішки Івана..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сторична основа : арешт друга, письменника, літературознавця Івана Світличного (1965 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формулюйте питання, що допоможуть розкрити ідейний зміст поезі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ередзавданн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Творча робот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Життєве кредо Василя Стуса рядками його поезій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4720" y="3499920"/>
            <a:ext cx="44640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Ми ще повернемос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обов'язково повернемос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бодай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ногами впере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але: не мертві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але: не переможені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але: безсмертн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В. Ст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-2916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Я пишу вірші і гадаю, що колись то буд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потрібно моєму народові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А що мене мучать за них – то що ж зробиш?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Це вже доля, а долі не обирають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В. Стус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3149640" cy="4680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8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2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6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72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8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4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92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8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4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76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40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разне читання поезі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Есе “Я і Стус: лінії перетину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ндивідуально: для самостійного читання – “Верстаю шлях – по вимерзлій пустелі...”, “Сховатися од долі – не судилось”, “Господи, гніву пречистого..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ндивідуально: дослідження “Лексичні особливості поезій В. Стуса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99"/>
                </a:solidFill>
                <a:latin typeface="Arial"/>
              </a:rPr>
              <a:t>Це вже доля, а долі не обирають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87280" y="1050840"/>
            <a:ext cx="684216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58920" y="1111320"/>
            <a:ext cx="6769080" cy="57466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Юнацькі ро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16000" y="1071720"/>
            <a:ext cx="6624720" cy="5786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З сім'є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913440" cy="5869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Поховання геро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Василь Стус</a:t>
            </a:r>
            <a:br>
              <a:rPr sz="4400"/>
            </a:b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Філософська лірика митц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00720" y="2327040"/>
            <a:ext cx="464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и ще повернемос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бов'язково повернемос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бодай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огами вперед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але: не мертв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але: не переможені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але: безсмертн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. Ст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441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Мета уроку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знайомитись із творчим доробком зрілого митця. Розкрити пристрасність, історичне тло, широту діапазону поетичного мислення В. Сту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читися сприймати філософську лірику, аналізувати поезі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ередзавдання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Творча робот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1" lang="uk-UA" sz="3200" spc="-1" strike="noStrike">
                <a:solidFill>
                  <a:srgbClr val="ffff99"/>
                </a:solidFill>
                <a:latin typeface="Arial"/>
              </a:rPr>
              <a:t>Життєве кредо Василя Стуса рядками його поезій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Arial"/>
              </a:rPr>
              <a:t>Аналіз поезії “Як добре те, що смерті не боюсь я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 якими біблійними, історичними образами з'єднує асоціативно поет ліричного геро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кі життєві принципи декларує автор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o</cp:lastModifiedBy>
  <dcterms:modified xsi:type="dcterms:W3CDTF">2008-03-28T05:21:32Z</dcterms:modified>
  <cp:revision>14</cp:revision>
  <dc:subject/>
  <dc:title>PowerPoint Presentation</dc:title>
</cp:coreProperties>
</file>